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6EA-19DE-4DA9-91E6-42DC9EAB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FD9-42EB-4D5A-AF42-08AA439E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ACD-8684-475C-8BE1-D81C7012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8DB-39A6-41E9-AD2C-88A33F99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4BF-1183-41A5-B65F-CA9B6B3C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993-17D3-4637-9A27-D666926D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638-A98B-4534-BD9E-2BD03AD2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950-9880-4CCC-9E20-47585503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7C3-00F4-495F-818B-3DA1CB91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331-4307-4D40-821A-10421BE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FF4-02B1-41BA-98D5-F4DBC5AD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415-74A7-413E-9692-C99E0279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7351-CADB-4D0D-A7AD-BD084034D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22.39 potrka na vrata 55-letna pacientka, prišepa v ambulanto ter sklonjena navzpred s trpečim glasom reč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Že 2 meseca me boli križu in levem kolku, zadnji teden pa se je bolečina močno poslabšala in seva še navzdol v leva meča. Ne zdržim več. Prosim, storite kaj, Lekadol in Ketonal mi nič več ne pomagat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 posebej smo pozorn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st po 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ue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stiranje mišične moči sp. ekstremitet (hoja po prstih/petah, vstajanje iz poče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e ugotovimo parezo, je pomemben čas trajanja pareze (&gt;3d HITRO, ≤3d NUJ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rmatomska porazdelitev hipest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ktalni pregled za testiranje sfinkt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talgična hoja na desno nogo, obsegi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ravnana ledvena lord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zitiven 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ue levo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desno n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kolkov in kolen prosta, nebole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abša groba moč dorzifleksije levega stopala in palca (stopnja 4) že 10 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estezije po zunanji strani leve gol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ktalni pregled b.p., refleksi simetrič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rtroza levega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ndrom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teri spinalni živec je prizad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ob 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čan analgetik, Rp za analgetike doma, napotnica za MRI in F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ojšnja napotitev v bolni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čan analgetik, pričakujemo izboljšanje v 1-2 dn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tg hrbtenice in nato odločitev, kaj napr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avlj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2-3 tedenski počitek, mirovanje, analgezija, protibolečinska obse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gibavanje šele po umiritvi bole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 zaradi potrditve diagnoze in odločitve glede operativne terap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perativna terapija ni </a:t>
            </a:r>
            <a:r>
              <a:rPr b="0" lang="sl-SI" sz="3200" spc="-1" strike="noStrike" u="sng">
                <a:solidFill>
                  <a:srgbClr val="000000"/>
                </a:solidFill>
                <a:uFillTx/>
                <a:latin typeface="Arial"/>
              </a:rPr>
              <a:t>urgentn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dici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aj bi bila indicirana urgentna operaci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finktrske mot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kcionalno pomembna pareza ≤3 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tem primeru napotiti pacienta v bolnišnico, ki ima možnost urgentnega MRI in urgentnega spinalnega kirur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 komu bi napotili NEurgentnega pacie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rokir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zi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rez anamneze/pregleda ne morete pravilno oceniti urgentnosti in bolnika pravilno napo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edeti, kaj je NUJNO (sfinktri, pareze ≤ 3d), kaj HITRO in kaj ne zahteva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u razložiti potek bolezni (2t-3t boleč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pake: odklonitev pacienta, zakasnitev pri sfinktrskih motnjah, nenatančen pregled mo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storite s pacientk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jo NUJNO napotite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napotnico, jutri pregled v bolniš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ko pregledate in se nato odloč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Rp za močnejši analgetik in jo naročite na pregled naslednj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sevanje bolečine v meč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č v življe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FINKTRSKE MOTN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entka nam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čina seva v meča 10 d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čkrat bolel križ in kolk, nikoli tako hu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z vročine ali mrzl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spomni se sprožilnega dejavn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čine v mirovanju, tudi pon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no ne jemlje zdravil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LOVANJE SFINKTRO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 blato grem bolj po redko, zato vsak večer pojem četrt lubenice in popijem  2 dcl segrete mineralne v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 vodo grem v redu, le včeraj zjutraj mi je nekaj vode ušlo, ker zaradi bolečin nisem pravočasno prišla do stranišč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inični preg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MRI levega ko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MRI hrbte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entko takoj napotimo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hrbtenice in kolka obs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drža, fiziološke krivine, obseg gol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in perkusija, Homansov 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 v kolku, kolenu, gležnj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ih ekstremit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torika, tonus, refleksi, senzo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02T16:12:52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